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B3BB-1E7A-4FE0-86D9-52B50E8C9BD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291F-2846-44C8-A3C4-2A4F9D2BE33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2845-B5BD-4B96-B62F-47D627A2501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1809-EFEF-4E65-9DB1-53BAC21E7D4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8A34-EC7D-48A6-B8BE-B88295F53B3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E069-22CF-4D70-9264-2AAF52715F0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67719-8E8A-44C2-88C9-B6E718AF1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F8B9-515C-45DC-8929-A45E1C1ECB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7A97-D6C4-49F2-8F1F-3C22E9B8B0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CFB1-8E06-4669-88B7-851B2BCB61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8B66-A1B6-46FB-B629-AD337980AF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5E1E-8D2D-4065-B8ED-ABD266EC81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5662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7804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9016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1380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82592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82592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82592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88840" y="167760"/>
            <a:ext cx="7366320" cy="173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88480" y="1899720"/>
            <a:ext cx="3543480" cy="411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46728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5204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3680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200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8840" y="126720"/>
            <a:ext cx="7366320" cy="181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88840" y="1943280"/>
            <a:ext cx="7366320" cy="49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63400" indent="-3855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906480" indent="-385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249200" indent="-3855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4880" indent="-3855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947960" indent="-385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947960" indent="-385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947960" indent="-3859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88840" y="167760"/>
            <a:ext cx="7366320" cy="173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460840" y="1899720"/>
            <a:ext cx="2794320" cy="411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0000"/>
          </a:bodyPr>
          <a:p>
            <a:pPr marL="394200" indent="-2696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4320" indent="-27000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874440" indent="-2696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23200" indent="-2696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363320" indent="-27000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363320" indent="-27000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363320" indent="-27000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88840" y="167760"/>
            <a:ext cx="7366320" cy="173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888480" y="1899720"/>
            <a:ext cx="3543480" cy="411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3000"/>
          </a:bodyPr>
          <a:p>
            <a:pPr marL="46728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5204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3680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2000" indent="-319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63036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3032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8752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9447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9447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94472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4240" y="6392520"/>
            <a:ext cx="306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9F18-A960-40B0-899B-17F685F0EF6F}" type="slidenum"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88840" y="167760"/>
            <a:ext cx="7366320" cy="173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888840" y="1899720"/>
            <a:ext cx="7366320" cy="4110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59724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2628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5568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96960" indent="-426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2636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2636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26360" indent="-426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251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88840" y="0"/>
            <a:ext cx="7366320" cy="347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347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44240" y="0"/>
            <a:ext cx="4127400" cy="3314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3479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44240" y="0"/>
            <a:ext cx="4127400" cy="3314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Kiowa_people" TargetMode="External"/><Relationship Id="rId2" Type="http://schemas.openxmlformats.org/officeDocument/2006/relationships/hyperlink" Target="http://en.wikipedia.org/wiki/Kiowa_people" TargetMode="External"/><Relationship Id="rId3" Type="http://schemas.openxmlformats.org/officeDocument/2006/relationships/hyperlink" Target="http://www.bigorrin.org/kiowa_kids.htm" TargetMode="External"/><Relationship Id="rId4" Type="http://schemas.openxmlformats.org/officeDocument/2006/relationships/hyperlink" Target="http://www.bigorrin.org/kiowa_kids.htm" TargetMode="External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76560" cy="48769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3968640" y="0"/>
            <a:ext cx="5219640" cy="35179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6742080" y="3511440"/>
            <a:ext cx="2656080" cy="40258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43200" tIns="38160" bIns="38160" anchor="ctr">
            <a:normAutofit/>
          </a:bodyPr>
          <a:p>
            <a:pPr marL="39600" indent="0" algn="ctr">
              <a:lnSpc>
                <a:spcPct val="10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Gill Sans"/>
              </a:rPr>
              <a:t>B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00" indent="0" algn="ctr">
              <a:lnSpc>
                <a:spcPct val="100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Gill Sans"/>
                <a:ea typeface="ヒラギノ角ゴ ProN W3"/>
              </a:rPr>
              <a:t>	</a:t>
            </a:r>
            <a:r>
              <a:rPr b="0" lang="en-US" sz="2800" spc="-1" strike="noStrike">
                <a:solidFill>
                  <a:srgbClr val="898989"/>
                </a:solidFill>
                <a:latin typeface="Gill Sans"/>
              </a:rPr>
              <a:t>Claire la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1998720" y="3073320"/>
            <a:ext cx="37972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Gill Sans"/>
              </a:rPr>
              <a:t>The Kiowa Peop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0" y="4876920"/>
            <a:ext cx="1574640" cy="21621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5154480" y="3517920"/>
            <a:ext cx="15894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ere they lived and were they live today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Bold"/>
                <a:ea typeface="Verdana Bold"/>
              </a:rPr>
              <a:t>the Kiowa lived in and around the Texas panhand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Kiowa tribe was forced to move to a reservation in Oklahom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Kiowa Indians lived in large buffalo-hide tents called teepe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4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17520" y="4076640"/>
            <a:ext cx="2882880" cy="28195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4356000" y="4521240"/>
            <a:ext cx="4064040" cy="199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4533-C3EE-46F5-827F-EEDE9F0C7C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they ate and how they got i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e Kiowa were hunters and gath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ntelope, deer, wild berries, wild fruit, turkeys and wild other animals is what they at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854680" y="453384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2324160" y="4533840"/>
            <a:ext cx="3530520" cy="229860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0" y="4533840"/>
            <a:ext cx="2070000" cy="20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at they believ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Bold"/>
                <a:ea typeface="Verdana Bold"/>
              </a:rPr>
              <a:t>elk teeth and skin was believed to be powerful love magic a woman wearing elk skin and teeth was irresistible to men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 Bold"/>
                <a:ea typeface="Verdana Bold"/>
              </a:rPr>
              <a:t>they also may believe in jes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4" name=""/>
          <p:cNvSpPr/>
          <p:nvPr/>
        </p:nvSpPr>
        <p:spPr>
          <a:xfrm>
            <a:off x="7546320" y="6447240"/>
            <a:ext cx="16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Lucida Grande"/>
                <a:ea typeface="Lucida Grand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3235320" y="3225960"/>
            <a:ext cx="2867040" cy="42163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6107040" y="2968560"/>
            <a:ext cx="2871720" cy="38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158F-FDA8-4094-A42E-063A77DE95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who they worshiped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43080" y="1422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iowas practiced peyotism peyotism involves using a spinless cactus called peyote it was used to talk to the spirit world Peyote personified 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g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led Mescalito 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77840" y="2832120"/>
            <a:ext cx="4397400" cy="384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EED3-652A-45EC-913F-3F8669C2B9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1"/>
              </a:rPr>
              <a:t>http://en.wikipedia.org/wiki/Kiowa_peopl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http://www.texasindians.com/kiowa.ht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3"/>
              </a:rPr>
              <a:t>http://www.bigorrin.org/kiowa_kids.htm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http://www.google.com/searchkiowa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Lucida Grande"/>
              </a:rPr>
              <a:t>http://en.wikipedia.org/wiki/Native_American_Churc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5"/>
          <a:stretch/>
        </p:blipFill>
        <p:spPr>
          <a:xfrm>
            <a:off x="6680160" y="-1440"/>
            <a:ext cx="2451240" cy="19699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04760" y="-76320"/>
            <a:ext cx="2814480" cy="1841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ire Law</dc:creator>
  <dc:description/>
  <dc:language>en-US</dc:language>
  <cp:lastModifiedBy/>
  <cp:revision>0</cp:revision>
  <dc:subject/>
  <dc:title>The Kiowa People</dc:title>
</cp:coreProperties>
</file>